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DCC-B06A-40F8-AF06-2E896558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EB5-CF3D-4EEE-909A-89362F3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6D3-A03B-4FE9-A004-D94996F0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A05-EE64-4D1C-BFE3-C343EE54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7CB-782A-4105-95FC-D9364A5C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55AC-B4B7-4F35-8B9A-DCECC88C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FF7-74EA-4B08-BA17-84809849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FA36-6647-4576-A108-2151B3E3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C34-B4CA-4CA4-B87C-21678A0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9C33-A75B-404C-BC6D-8AFD9136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BAE-A128-4FD5-AFA4-32AB5A38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B8A-DAAC-473D-87DD-D4B2E4D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F38-759D-40AC-9C71-9D065B1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E7B-F519-46D1-BF90-F1CB50B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973-C83B-4FC3-8894-51F4762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00B3-94B8-464A-8D88-AD33D426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1D6-C922-4B54-8F2A-F1C9C1AE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154-E04C-4FF5-B1FD-2727391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C70-4465-4A6D-B5AF-39F968CB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AB7-F63B-4E9B-BF41-F447B067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362-AC3B-4237-927D-0E70857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021-A27D-4488-874E-93C17FF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95A-A05D-41AE-8F2A-B902F0E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8EE-6FC3-44E2-8FD3-F351EA1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3AA7-5B79-4AA8-891E-3AFCD9A89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731-E047-4DA2-BD55-0323B5B48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imgres?imgurl=http://voce.ro/wp-content/uploads/2009/03/love-for-life.jpg&amp;imgrefurl=http://blog.voce.ro/2009/03/25/love-for-life.html&amp;usg=__x315EII8CmZ6xsj0_1VvgD2WAgY=&amp;h=375&amp;w=500&amp;sz=62&amp;hl=ro&amp;start=34&amp;zoom=1&amp;itbs=1&amp;tbnid=AzyoY7HSATEavM:&amp;tbnh=98&amp;tbnw=130&amp;prev=/images%3Fq%3Dlove%26start%3D20%26hl%3Dro%26sa%3DN%26rlz%3D1R2ADRA_enRO391%26ndsp%3D20%26tbs%3Disch:1%26prmd%3Div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meo de la t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de popul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meo si Julie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 o cucereste Romeo pe Julie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81320" y="2762280"/>
            <a:ext cx="981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ged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e unii parinti nu accepta dragostea tineri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e diferente pot indeparta oamenii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ul?Avutia?Rasa?Religia?Apartenenta poli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2305080" cy="154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2744640"/>
            <a:ext cx="220968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e sentiment poate lega doi tineri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a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et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os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88620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ragostea implinita si neimplini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t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art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g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124440" cy="230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357192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9:34:01Z</dcterms:created>
  <dc:creator>Cursant15</dc:creator>
  <dc:description/>
  <dc:language>en-US</dc:language>
  <cp:lastModifiedBy>Cursant15</cp:lastModifiedBy>
  <dcterms:modified xsi:type="dcterms:W3CDTF">2010-08-25T11:39:05Z</dcterms:modified>
  <cp:revision>4</cp:revision>
  <dc:subject/>
  <dc:title>Romeo de la tara</dc:title>
</cp:coreProperties>
</file>